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9C7-BD3A-4651-9F28-1004E217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4BB-0B0B-45B4-B4A4-E906DF22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B27-3001-4817-90C7-068ECBF6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23E-F4E2-4CF4-BDEA-C757E6B2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DC7-6F53-4D27-9A6B-605795E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EAA-5699-488F-B1AC-694B66A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BFF-4ABF-4566-A11F-E87FD9FA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13D-10B5-49C0-9BDE-9F07D30D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31D-1667-4371-BB7D-DBB1F9E9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4CA-427B-4610-BEE3-B8EF7D4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A37-6056-458F-A618-C1187DA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01B-3ECF-46E9-A73B-0BC2D26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7FC9-A994-4B03-910F-5867FFBE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66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696000" cy="495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887400"/>
            <a:ext cx="7129440" cy="516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89640" cy="409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260280"/>
          <a:ext cx="7488360" cy="6384960"/>
        </p:xfrm>
        <a:graphic>
          <a:graphicData uri="http://schemas.openxmlformats.org/drawingml/2006/table">
            <a:tbl>
              <a:tblPr/>
              <a:tblGrid>
                <a:gridCol w="387360"/>
                <a:gridCol w="7101000"/>
              </a:tblGrid>
              <a:tr h="63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THOSE WINTER SUN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Sundays too my father got up earl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put his clothes on in the blueback cold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then with cracked hands that ach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from labor in the weekday weather ma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banked fires blaze. No one ever thanked him.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I'd wake and hear the cold splintering, breaking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en the rooms were warm, he'd call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slowly I would rise and dres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fearing the chronic angers of that house,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Speaking indifferently to him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o had driven out the col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and polished my good shoes as well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What did I know, what did I know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Comic Sans MS"/>
                          <a:ea typeface="Arial"/>
                        </a:rPr>
                        <a:t>of love's austere and lonely offices?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0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Robert Hayden </a:t>
                      </a:r>
                      <a:br>
                        <a:rPr sz="10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5:14:53Z</dcterms:created>
  <dc:creator>dhobbs</dc:creator>
  <dc:description/>
  <dc:language>en-US</dc:language>
  <cp:lastModifiedBy>dhobbs</cp:lastModifiedBy>
  <dcterms:modified xsi:type="dcterms:W3CDTF">2010-03-12T07:05:55Z</dcterms:modified>
  <cp:revision>3</cp:revision>
  <dc:subject/>
  <dc:title>Slide 1</dc:title>
</cp:coreProperties>
</file>